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BC2A-4A14-465B-B9E4-773DE49D078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F213-DF45-47BD-8FB8-6C66423E151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C0C2-6C35-4CB2-A649-3F45CE67A8E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04B6-7AD2-4529-90D7-3CAB0ACAE70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A229-9D75-4131-9012-06027387F9B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E147-47B6-457A-BE69-58DBDD661A8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497C-3B76-43FD-A130-7E3C7F09739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38BA-B415-4369-8556-32A58992361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BDE4-C43F-4E2D-B76B-28CD6F119EE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2CC2-25E7-4C87-BB31-8C8B0EF385C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D9BB-2CA8-445E-9732-CBBD15782CC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DD83-B30F-4FB7-9460-21E0B81A9AD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44A6-B5B9-45A4-BFB9-9DE4015A61F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C48C-B077-41E4-9CB7-5BFCE1C5513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E2D8-6EA4-49DD-84BE-5E6D2A719A7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37A2-EBBA-45BB-9A6A-636F8911BAE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1BF9-C02E-4C1D-8193-1301147E2A4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3168-4221-4662-965A-1243AFD173F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F847-152D-4E3A-8B8A-8E43BA6498D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76D2-484C-45F3-88E5-59EFEB2C541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2913-522D-4EB4-8DBF-E4152D1DA35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CD7C-DAE8-494A-8E08-BC9E920924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4DA9-D70D-4EB0-995C-6D8AFD1D78A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5AA7-1773-4663-A717-E7AE808AFD4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1AAA-0B6D-46DD-BE9D-6F1F27D731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4B0B-CD59-4160-B0B2-FC8EE173A7A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1ED1B-AAD2-40F8-93F5-8C7011861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8FB7B-FCD4-4A6B-B824-F8558B5AD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B0E73-0C2C-43F3-86E3-F54DAC260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E69D7-2C2F-406B-9AA1-05DACF86E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F994F-34E3-4D1D-AD2B-61E1FB6AD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F2265-1AA9-41BA-A016-577A9DB2A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B9646-5969-4F1A-BE30-62CEC90F1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8EBB1-CF6D-45FC-9479-63AA0033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6DE36-CCAF-4D9E-A05D-443AB20B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E31D-5840-48BB-B00B-5E398FF92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DD25-C8A1-45E8-91DE-3198A554C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1B8B0-4D15-4B6D-9B68-7D50B3082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4A31-18E6-4E7D-AED6-771EB2EDE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tinuing Comprehension Teaching and Learn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143000" y="378576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ddon/Mallee October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ocuses for teaching and learning </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texts (level, range, genres, type of tex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m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on (each strategy plus combination of strategies/metacogn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691920"/>
            <a:ext cx="821844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eaching and assessment cycle – always for authentic reading purposes</a:t>
            </a:r>
            <a:endParaRPr b="0" lang="en-US" sz="4000" spc="-1" strike="noStrike">
              <a:solidFill>
                <a:srgbClr val="000000"/>
              </a:solidFill>
              <a:latin typeface="Arial"/>
            </a:endParaRPr>
          </a:p>
        </p:txBody>
      </p:sp>
      <p:sp>
        <p:nvSpPr>
          <p:cNvPr id="69"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ole class: Read aloud</a:t>
            </a:r>
            <a:r>
              <a:rPr b="0" lang="en-US" sz="2400" spc="-1" strike="noStrike">
                <a:solidFill>
                  <a:srgbClr val="000000"/>
                </a:solidFill>
                <a:latin typeface="Arial"/>
              </a:rPr>
              <a:t> – explicit demonstration</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ole class: Shared reading</a:t>
            </a:r>
            <a:r>
              <a:rPr b="0" lang="en-US" sz="2400" spc="-1" strike="noStrike">
                <a:solidFill>
                  <a:srgbClr val="000000"/>
                </a:solidFill>
                <a:latin typeface="Arial"/>
              </a:rPr>
              <a:t> – teachers and students collaboratively using strategy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ependent reading</a:t>
            </a:r>
            <a:r>
              <a:rPr b="0" lang="en-US" sz="2400" spc="-1" strike="noStrike">
                <a:solidFill>
                  <a:srgbClr val="000000"/>
                </a:solidFill>
                <a:latin typeface="Arial"/>
              </a:rPr>
              <a:t> –  students using strategy while reading; teacher confers with students to assess strengths and needs/teaches “on-the-spot”; students articulate what they are doing; recorded for student and teacher; teacher plans further teaching</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dditional scaffolded assistance for small groups based on needs – </a:t>
            </a:r>
            <a:r>
              <a:rPr b="0" lang="en-US" sz="2400" spc="-1" strike="noStrike">
                <a:solidFill>
                  <a:srgbClr val="000000"/>
                </a:solidFill>
                <a:latin typeface="Arial"/>
              </a:rPr>
              <a:t>eg. Guided Reading; routines such as SQ3R, DRTA, Reciprocal Teaching, QAR, SAIL; Vocab, fluency, decoding work; how to select texts to read; etc</a:t>
            </a:r>
            <a:endParaRPr b="0" lang="en-US" sz="2400" spc="-1" strike="noStrike">
              <a:solidFill>
                <a:srgbClr val="000000"/>
              </a:solidFill>
              <a:latin typeface="Arial"/>
            </a:endParaRPr>
          </a:p>
          <a:p>
            <a:pPr marL="343080" indent="-3430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Whole cla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ferring</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en</a:t>
            </a:r>
            <a:r>
              <a:rPr b="0" lang="en-US" sz="2800" spc="-1" strike="noStrike">
                <a:solidFill>
                  <a:srgbClr val="000000"/>
                </a:solidFill>
                <a:latin typeface="Arial"/>
              </a:rPr>
              <a:t> – whenever students are reading, in all domains</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o with</a:t>
            </a:r>
            <a:r>
              <a:rPr b="0" lang="en-US" sz="2800" spc="-1" strike="noStrike">
                <a:solidFill>
                  <a:srgbClr val="000000"/>
                </a:solidFill>
                <a:latin typeface="Arial"/>
              </a:rPr>
              <a:t> – all students over time, more often with some</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at to find out</a:t>
            </a:r>
            <a:r>
              <a:rPr b="0" lang="en-US" sz="2800" spc="-1" strike="noStrike">
                <a:solidFill>
                  <a:srgbClr val="000000"/>
                </a:solidFill>
                <a:latin typeface="Arial"/>
              </a:rPr>
              <a:t> – refer to Reading Curriculum</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How to find out</a:t>
            </a:r>
            <a:r>
              <a:rPr b="0" lang="en-US" sz="2800" spc="-1" strike="noStrike">
                <a:solidFill>
                  <a:srgbClr val="000000"/>
                </a:solidFill>
                <a:latin typeface="Arial"/>
              </a:rPr>
              <a:t> – what assessment is suitable for each aspect of reading?</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How to record</a:t>
            </a:r>
            <a:r>
              <a:rPr b="0" lang="en-US" sz="2800" spc="-1" strike="noStrike">
                <a:solidFill>
                  <a:srgbClr val="000000"/>
                </a:solidFill>
                <a:latin typeface="Arial"/>
              </a:rPr>
              <a:t> for students and for planning</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at teaching</a:t>
            </a:r>
            <a:r>
              <a:rPr b="0" lang="en-US" sz="2800" spc="-1" strike="noStrike">
                <a:solidFill>
                  <a:srgbClr val="000000"/>
                </a:solidFill>
                <a:latin typeface="Arial"/>
              </a:rPr>
              <a:t> is then required? Selecting suitable work depending on the need; pla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APPROPRIATE  ASSESSMENT (data)</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How is each component of the Reading Curriculum being assessed (to inform teach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level of difficulty is the text and is this increasing over ti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isten to student read and discuss comprehension/refer to student log of rea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process – analysis of Running Records of oral rea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on – discussion/comprehension checklists (not just questions to answ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ency – student reading alou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cabulary–discussion about meaning of words/phra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ing – analysis of Running Records of oral reading and analysing strategies used for spel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of reading – student log of rea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text – conversations with others, ideas presented in reading jour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sponsibilities of teaching years 5-7</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Ensuring students see that reading is enjoyable – establishing a reading habit through sustained independent rea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for now (what are students’ strengths and needs? – learned through confer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Teaching for the future years of school and for life (what will the expectations of students be in years 7-1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nformation should be passed on to the next teachers and how can this be done so that it’s usefu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known about what you should be do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rticle: Comprehension Instruction in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 </a:t>
            </a:r>
            <a:r>
              <a:rPr b="0" lang="en-US" sz="4000" spc="-1" strike="noStrike">
                <a:solidFill>
                  <a:srgbClr val="ff6600"/>
                </a:solidFill>
                <a:latin typeface="Arial"/>
              </a:rPr>
              <a:t>RECIPROCAL TEACHING – one routine using multiple strategies</a:t>
            </a:r>
            <a:endParaRPr b="0" lang="en-US" sz="4000" spc="-1" strike="noStrike">
              <a:solidFill>
                <a:srgbClr val="000000"/>
              </a:solidFill>
              <a:latin typeface="Arial"/>
            </a:endParaRPr>
          </a:p>
        </p:txBody>
      </p:sp>
      <p:sp>
        <p:nvSpPr>
          <p:cNvPr id="7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using:</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Predic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meaning (</a:t>
            </a:r>
            <a:r>
              <a:rPr b="0" lang="en-US" sz="2800" spc="-1" strike="noStrike">
                <a:solidFill>
                  <a:srgbClr val="0066ff"/>
                </a:solidFill>
                <a:latin typeface="Arial"/>
              </a:rPr>
              <a:t>question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Questioning</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ummaris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earch: 20 sessions will assist struggling readers to improve reading by at least 1.5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Q3R </a:t>
            </a:r>
            <a:r>
              <a:rPr b="0" lang="en-US" sz="4000" spc="-1" strike="noStrike">
                <a:solidFill>
                  <a:srgbClr val="000000"/>
                </a:solidFill>
                <a:latin typeface="Arial"/>
              </a:rPr>
              <a:t>(Survey, Question, Read, Recall/Recite, Review)</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useful for learning how to deal with formal assessments which have questions the student has to provide answers for (a test is a genre that students need to learn ab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strategies used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Survey</a:t>
            </a:r>
            <a:r>
              <a:rPr b="0" lang="en-US" sz="2000" spc="-1" strike="noStrike">
                <a:solidFill>
                  <a:srgbClr val="000000"/>
                </a:solidFill>
                <a:latin typeface="Arial"/>
              </a:rPr>
              <a:t> – predicting, using prior knowledge plus text features such as structure, headings, labels, art/photos, maps, footnotes,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Question </a:t>
            </a:r>
            <a:r>
              <a:rPr b="0" lang="en-US" sz="2000" spc="-1" strike="noStrike">
                <a:solidFill>
                  <a:srgbClr val="000000"/>
                </a:solidFill>
                <a:latin typeface="Arial"/>
              </a:rPr>
              <a:t>– what questions arise during survey? (what are test ques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Read</a:t>
            </a:r>
            <a:r>
              <a:rPr b="0" lang="en-US" sz="2000" spc="-1" strike="noStrike">
                <a:solidFill>
                  <a:srgbClr val="000000"/>
                </a:solidFill>
                <a:latin typeface="Arial"/>
              </a:rPr>
              <a:t> – actively able to use comprehension strategies, thinking about predictions, using text structures, visualising, summarising, (thinking about test ques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Recall/Recite</a:t>
            </a:r>
            <a:r>
              <a:rPr b="0" lang="en-US" sz="2000" spc="-1" strike="noStrike">
                <a:solidFill>
                  <a:srgbClr val="000000"/>
                </a:solidFill>
                <a:latin typeface="Arial"/>
              </a:rPr>
              <a:t> –  summarising, using text structure knowled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Review</a:t>
            </a:r>
            <a:r>
              <a:rPr b="0" lang="en-US" sz="2000" spc="-1" strike="noStrike">
                <a:solidFill>
                  <a:srgbClr val="000000"/>
                </a:solidFill>
                <a:latin typeface="Arial"/>
              </a:rPr>
              <a:t> – reviewing total understanding (checking that questions are answe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stion-Answer-Relationship </a:t>
            </a:r>
            <a:r>
              <a:rPr b="1" lang="en-US" sz="3200" spc="-1" strike="noStrike">
                <a:solidFill>
                  <a:srgbClr val="000000"/>
                </a:solidFill>
                <a:latin typeface="Arial"/>
              </a:rPr>
              <a:t>(QAR)</a:t>
            </a:r>
            <a:br>
              <a:rPr sz="4000"/>
            </a:b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sists students to figure out how to go about answering questions being asked about a given text.</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cuses on the relationship that exists between the question, the text, and the background knowledge of the reader.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are taught to use four question/answer relationships (QARs) to find the information needed to answer a question –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Right There (in the text - literal – detail)</a:t>
            </a:r>
            <a:r>
              <a:rPr b="0" lang="en-AU"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Think and Search (in the text - some searching and cross text connections required)</a:t>
            </a:r>
            <a:r>
              <a:rPr b="0" lang="en-AU"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uthor and me</a:t>
            </a:r>
            <a:r>
              <a:rPr b="0" lang="en-AU" sz="2000" spc="-1" strike="noStrike">
                <a:solidFill>
                  <a:srgbClr val="000000"/>
                </a:solidFill>
                <a:latin typeface="Arial"/>
              </a:rPr>
              <a:t> (</a:t>
            </a:r>
            <a:r>
              <a:rPr b="0" i="1" lang="en-AU" sz="2000" spc="-1" strike="noStrike">
                <a:solidFill>
                  <a:srgbClr val="000000"/>
                </a:solidFill>
                <a:latin typeface="Arial"/>
              </a:rPr>
              <a:t>comes from student’s background knowledge, but students need to have read and understood the text – inferential)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On My Own (relates to text, but the student could answer even if they had never read the text - ideas and information come from student’s background knowled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VOCABULARY</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de readin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stablishment of an environment that promotes word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licit instruction of word learning strategies: selection of words, context clues, meaning of word parts, multiple resources, discussion with others, realisation that words have multiple meanings – which is most suitab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LUENCY</a:t>
            </a:r>
            <a:r>
              <a:rPr b="0" lang="en-US" sz="4000" spc="-1" strike="noStrike">
                <a:solidFill>
                  <a:srgbClr val="000000"/>
                </a:solidFill>
                <a:latin typeface="Arial"/>
              </a:rPr>
              <a:t> </a:t>
            </a:r>
            <a:r>
              <a:rPr b="0" lang="en-US" sz="3200" spc="-1" strike="noStrike">
                <a:solidFill>
                  <a:srgbClr val="000000"/>
                </a:solidFill>
                <a:latin typeface="Arial"/>
              </a:rPr>
              <a:t>(rate, phrasing, expression)</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readings by student, firstly listening, then reading with, then independ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oral reading experiences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dio reading/webcasts, Shared Reading, choral reading, Readers Theatre, poetry club, rehearsed Read Aloud to an audience, paired reading, read along with CDs/DVDs/ip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Agenda</a:t>
            </a:r>
            <a:br>
              <a:rPr sz="4000"/>
            </a:b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a:t>
            </a:r>
            <a:br>
              <a:rPr sz="2000"/>
            </a:br>
            <a:r>
              <a:rPr b="0" lang="en-US" sz="2000" spc="-1" strike="noStrike">
                <a:solidFill>
                  <a:srgbClr val="000000"/>
                </a:solidFill>
                <a:latin typeface="Arial"/>
              </a:rPr>
              <a:t>comprehension strategies</a:t>
            </a:r>
            <a:br>
              <a:rPr sz="2000"/>
            </a:br>
            <a:r>
              <a:rPr b="0" lang="en-US" sz="2000" spc="-1" strike="noStrike">
                <a:solidFill>
                  <a:srgbClr val="000000"/>
                </a:solidFill>
                <a:latin typeface="Arial"/>
              </a:rPr>
              <a:t>reading curriculum</a:t>
            </a:r>
            <a:br>
              <a:rPr sz="2000"/>
            </a:br>
            <a:r>
              <a:rPr b="0" lang="en-US" sz="2000" spc="-1" strike="noStrike">
                <a:solidFill>
                  <a:srgbClr val="000000"/>
                </a:solidFill>
                <a:latin typeface="Arial"/>
              </a:rPr>
              <a:t>gradual release of responsibility</a:t>
            </a:r>
            <a:br>
              <a:rPr sz="2000"/>
            </a:br>
            <a:r>
              <a:rPr b="0" lang="en-US" sz="2000" spc="-1" strike="noStrike">
                <a:solidFill>
                  <a:srgbClr val="000000"/>
                </a:solidFill>
                <a:latin typeface="Arial"/>
              </a:rPr>
              <a:t>independent reading (see checklist)</a:t>
            </a:r>
            <a:br>
              <a:rPr sz="2000"/>
            </a:br>
            <a:r>
              <a:rPr b="0" lang="en-US" sz="2000" spc="-1" strike="noStrike">
                <a:solidFill>
                  <a:srgbClr val="000000"/>
                </a:solidFill>
                <a:latin typeface="Arial"/>
              </a:rPr>
              <a:t>classroom/area library (see checkli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erring with students/appropriate assess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of teaching years 5-7 (What is definitely known about comprehension instru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differentiated instruction/all domai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on routines – RT, QAR, SQ3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cabul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en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o nex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CODING</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s the most appropriate way to use knowledge of phonics for the following wor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l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isenfranchis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pecialis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reading, should students be taught that using of phonetic strategies means “sounding out” from the beginning of the word? How does this link to teaching spelling? How important is onset/rime work and learning about prefixes, suffixes, compound wor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ch words should students automatically be able to read? How does this link to teaching spelling? How are these words best lear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Eurostile"/>
              </a:rPr>
              <a:t>Effective teachers of comprehension </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comprehension strategies</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eaching with a variety of text types</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eaching and learning using a gradual release of responsibility model</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at comprehension teaching does not stand alone (fluency, decoding, vocabulary &amp; world knowledge influence comprehension)</a:t>
            </a:r>
            <a:endParaRPr b="0" lang="en-US" sz="2800" spc="-1" strike="noStrike">
              <a:solidFill>
                <a:srgbClr val="000000"/>
              </a:solidFill>
              <a:latin typeface="Arial"/>
            </a:endParaRPr>
          </a:p>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urostile"/>
              </a:rPr>
              <a:t>Comprehension Strategi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on/Prior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lo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Structure and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sing and Visual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mmari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LL YEAR  LEVELS and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e Reading Curriculum</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sing a range of “texts” (a variety of fiction and factual genres), within the context of authentic reading situations in all domains, the reading curriculum includes the teaching and learning abou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ding process – sampling the text, predicting the content and continually confirming or self-correcting and using syntactic, semantic, graphophonic cues to construct mean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hension strategies – predicting/prior knowledge, questioning, thinking-aloud, using text structures and features, visualising, summari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cabulary (affected by world knowled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ency – expression, phrasing, r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oding (not just “sounding ou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o read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select appropriate (“just right”) texts for </a:t>
            </a:r>
            <a:r>
              <a:rPr b="1" lang="en-US" sz="1800" spc="-1" strike="noStrike">
                <a:solidFill>
                  <a:srgbClr val="0066ff"/>
                </a:solidFill>
                <a:latin typeface="Arial"/>
              </a:rPr>
              <a:t>independent reading</a:t>
            </a:r>
            <a:r>
              <a:rPr b="1" lang="en-US" sz="1800" spc="-1" strike="noStrike">
                <a:solidFill>
                  <a:srgbClr val="000000"/>
                </a:solidFill>
                <a:latin typeface="Arial"/>
              </a:rPr>
              <a:t> and about the selection of easy or challenging texts for a range of purpo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INDEPENDENT READING?</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ding with 95% or higher accuracy rate and understanding what is being rea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9999"/>
                </a:solidFill>
                <a:uFillTx/>
                <a:latin typeface="Arial"/>
              </a:rPr>
              <a:t>SMART</a:t>
            </a:r>
            <a:r>
              <a:rPr b="0" lang="en-US" sz="2800" spc="-1" strike="noStrike">
                <a:solidFill>
                  <a:srgbClr val="009999"/>
                </a:solidFill>
                <a:latin typeface="Arial"/>
              </a:rPr>
              <a:t> </a:t>
            </a:r>
            <a:r>
              <a:rPr b="0" lang="en-US" sz="2800" spc="-1" strike="noStrike">
                <a:solidFill>
                  <a:srgbClr val="000000"/>
                </a:solidFill>
                <a:latin typeface="Arial"/>
              </a:rPr>
              <a:t>readers know how to select just right book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your school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often are students reading independently in all domai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eachers conferring with students at this time to learn about students’ strengths and nee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SEARC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veral studies have produced consistent findings showing positive correlations between the volume of independent reading and reading comprehension and vocabulary develop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llington, Richard.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691920"/>
            <a:ext cx="821844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eaching model: Gradual release of responsibility </a:t>
            </a:r>
            <a:endParaRPr b="0" lang="en-US" sz="4000" spc="-1" strike="noStrike">
              <a:solidFill>
                <a:srgbClr val="000000"/>
              </a:solidFill>
              <a:latin typeface="Arial"/>
            </a:endParaRPr>
          </a:p>
        </p:txBody>
      </p:sp>
      <p:sp>
        <p:nvSpPr>
          <p:cNvPr id="63"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ad aloud</a:t>
            </a:r>
            <a:r>
              <a:rPr b="0" lang="en-US" sz="2800" spc="-1" strike="noStrike">
                <a:solidFill>
                  <a:srgbClr val="000000"/>
                </a:solidFill>
                <a:latin typeface="Arial"/>
              </a:rPr>
              <a:t> –TO students, with explicit demonstration of strategies and purpose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hared reading</a:t>
            </a:r>
            <a:r>
              <a:rPr b="0" lang="en-US" sz="2800" spc="-1" strike="noStrike">
                <a:solidFill>
                  <a:srgbClr val="000000"/>
                </a:solidFill>
                <a:latin typeface="Arial"/>
              </a:rPr>
              <a:t> – WITH students, collaboratively working on strategies – using an enlarged tex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uided reading</a:t>
            </a:r>
            <a:r>
              <a:rPr b="0" lang="en-US" sz="2800" spc="-1" strike="noStrike">
                <a:solidFill>
                  <a:srgbClr val="000000"/>
                </a:solidFill>
                <a:latin typeface="Arial"/>
              </a:rPr>
              <a:t> – WITH &amp; BY students (supported with scaffolds – needs and strengths assessed during the independent reading time; reinforcing effective strategies) </a:t>
            </a:r>
            <a:r>
              <a:rPr b="0" lang="en-US" sz="2800" spc="-1" strike="noStrike">
                <a:solidFill>
                  <a:srgbClr val="ff0000"/>
                </a:solidFill>
                <a:latin typeface="Arial"/>
              </a:rPr>
              <a:t>Plus other small group task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dependent reading</a:t>
            </a:r>
            <a:r>
              <a:rPr b="0" lang="en-US" sz="2800" spc="-1" strike="noStrike">
                <a:solidFill>
                  <a:srgbClr val="000000"/>
                </a:solidFill>
                <a:latin typeface="Arial"/>
              </a:rPr>
              <a:t> – BY students (teacher confers with students – this is the real data that informs teach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lanning of teaching and learning</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reading block or in English cla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ross all dom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4:06:55Z</dcterms:created>
  <dc:creator>Diane Snnowball</dc:creator>
  <dc:description/>
  <dc:language>en-US</dc:language>
  <cp:lastModifiedBy>Diane Snnowball</cp:lastModifiedBy>
  <dcterms:modified xsi:type="dcterms:W3CDTF">2009-10-16T02:45:55Z</dcterms:modified>
  <cp:revision>32</cp:revision>
  <dc:subject/>
  <dc:title>Continuing Comprehension Teaching and Learning</dc:title>
</cp:coreProperties>
</file>